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882-4803-4B21-BA21-B74CF986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118-D3B2-4593-BBFC-9BCF6DA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E68-369F-41E4-9948-4589FDE2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049-8B60-4043-93F8-44ED28B3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099-5107-402D-8B2A-154FE11D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D28-3C32-41C9-AAE5-7C65688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8B6-3791-455B-A162-AD70B79D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005-EEEC-4FBE-BD11-608251C3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E32-6F3E-4C8B-94F1-29C16830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3CA-2540-4459-9B3E-A438A7D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4BF-01C8-44A8-BF19-581E475C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45C-1457-40A5-ABCD-0ED11928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EE91-C9C5-4790-B73A-2F16E3B3F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ezeshkanemrooz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آشنايي با بيماري لپتوسپيروسيس</a:t>
            </a:r>
            <a:br>
              <a:rPr sz="4000"/>
            </a:b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(بيماري ويل ، تب كاني كول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1844640"/>
            <a:ext cx="392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لپتوسپيروسيس يك بيماري مشترك بين انسان وحيوان با گسترش جهاني است. عفونتي كه مي تواند از طريق حيوان به انسان انتقال ياب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لپتوسپيروسيس بوسيله يک باكتري مارپيچي شكل ، نازك و به شدت متحرك از جنس لپتوسپيرا ايجاد شده و مي تواند انواع مختلف حيوانات وحشي و خانگي را آلوده كند. حيوانات نيز  عفونت را از طريق ادرار انتشار مي دهن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 منابع حيواني شايع (ميزبان نگهدارنده) شامل جوندگان ، احشام و خوكها مي 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717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99880" y="-66600"/>
            <a:ext cx="974376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99880" y="-95400"/>
            <a:ext cx="974376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859280" y="1773360"/>
            <a:ext cx="4105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تب ناگهاني ، سردرد ، لرز ، درد شديد عضلات ( ران ، ساق پا ) و التهاب ملتحمه چشم از علائم مشترک اين بيماري مي 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علائم با شيوع کمتر شامل : تب دو مرحله اي ، راش ، آنمي هموليتيک ، مننژيت ، خونريزي پوست و بافتهاي مخاطي ، نارسايي کبد و کليه ، يرقان و اختلالات عصبي به تنهايي و يا توأم با افسردگي ، ميوکارديت و ابتلاي ريوي به تنهايي يا توأم با خلط خوني مي باش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لپتوسپيروز در مواردي با مننژيت ، آنسفاليت يا آنفلوانزا اشتباه مي شو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Leptospirosis-820904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334836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Zar"/>
              </a:rPr>
              <a:t>علائم بالي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59280" y="1773000"/>
            <a:ext cx="4038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 rtl="1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علائم باليني بيماري از چند روز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 هفته و يا بيشتر ادامه مي ي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 rtl="1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موارد درمان نشده پس از چند ماه بهبود خواهند ياف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 rtl="1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ميزان کشندگي بيماري کم است ولي معمولا با افزايش سن افزايش مي ياب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 rtl="1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 علت مرگ در بيشتر موارد نارسائي توأم کبد و کليه و اختلالات خوني توأم با خونريزي ، نارسايي تنفسي در بالغين و يا بي نظمي ضربان قلب به علت ميوکارديت مي باش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Zar"/>
              </a:rPr>
              <a:t>طول بيم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456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اين بيماري در تمام نقاط شهري و روستايي مناطق پيشرفته و در حال توسعه جهان بجز نواحي قطبي شايع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بيماري در فصل تابستان يا پاييز و در مناطق گرمسيري و در فصول باراني شيوع 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لپتوسپيروز بيماري شغلي برنج کاران ، کارگران مزارع نيشکر ، کشاورزان ، کارگران فاضلاب ها و معادن ، دام پزشکان ، کارگران کشتارگاه ها ، دامداران ، کارگران کارخانجات فرآورده هاي شيري ، ماهيگيران و افراد ارتشي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آلودگي با ادرار حيوانات اهلي و وحشي از طريق آب هاي آلوده منجر به همه گيري مي شو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افراد در معرض خ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98756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17920" y="1673280"/>
            <a:ext cx="44020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حيوانات اهلي و وحشي مخزن لپتوسپيرها هستند . مهمترين آنها : موش ، خوک ، گاو ، سگ ، راکون هستن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روش انتقال : تماس با پوست ، خصوصا پوست خراش دار يا بافتهاي مخاطي با آب ، خاک مرطوب  و يا مواد گياهي از جمله نيشکر آلوده به ادرار حيوانات حامل لپتوسپيروزمي باش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دوره کمون : معمول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 رو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دوره واگيري : انتقال مستقيم از شخص به شخص ديگر نادر است . عامل بيماري ممکن است تا يکماه ( حتي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Zar"/>
              </a:rPr>
              <a:t>1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ماه ) از ادرار دفع شود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Zar"/>
              </a:rPr>
              <a:t>درمان اختصاصي : آنتي بيوتيک ، که با تجويز پزشک صورت مي پذي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راه هاي انتق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leptospirosis."/>
          <p:cNvPicPr/>
          <p:nvPr/>
        </p:nvPicPr>
        <p:blipFill>
          <a:blip r:embed="rId1"/>
          <a:stretch/>
        </p:blipFill>
        <p:spPr>
          <a:xfrm>
            <a:off x="539640" y="1773360"/>
            <a:ext cx="32655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79218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Zar"/>
              </a:rPr>
              <a:t>بهترين راه مبارزه با اين بيمار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Zar"/>
              </a:rPr>
              <a:t> بالا بردن سطح دانش افراد است، افرادي كه شغ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Zar"/>
              </a:rPr>
              <a:t>هاي پرخطر مشترك با دام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دارند مانند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Zar"/>
              </a:rPr>
              <a:t>صياد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ان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Zar"/>
              </a:rPr>
              <a:t>، كشاورز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ان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، دامپزشكان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Zar"/>
              </a:rPr>
              <a:t>و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كارگران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Zar"/>
              </a:rPr>
              <a:t>كشتارگا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ه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،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Zar"/>
              </a:rPr>
              <a:t> بايد علم چگونگي رفتار در اين محيط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Zar"/>
              </a:rPr>
              <a:t>ها را داشته باش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توصيه هاي مراقبتي ، بطور كلي انجام تمام اقدامات مناسب براي كاهش جوندگان مانند پاكسازي محيط زيست از زباله و جلوگيري از ورود جوندگان بداخل ساختمانها مي باش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 ايمن سازي حيوانات و درمان حيوانات آلوده نيز ارزشمند مي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خطر ابتلا به لپتوسپيروسيس ارتباط زيادي با شناكردن در آبهاي آلوده به ادرار حيوانات دارد. اگر شما درتماس با آبهاي شيرين سطحي مانند كانالها ، درياچه و رودخانه يا با موشهاي صحرايي هستيد ، اقدامات احتياطي زير مي تواند خطر ابتلاي شما را كاهش ده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ريدگيها و زخمها را با يك چسب ضد آب بپوشانيد و به طور كامل زخمها و خراش هايي را كه در طول فعاليت بوجود مي آيد را تميز كن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لباسهاي محافظ ، دستكش و پوتين هاي مناسب بپوشي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عد از ورزش هاي آبي ، خصوصاً اگرداخل آ ب افتاده ايد دوش بگير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از غلت زدن يا فرو رفتن در آبهاي راكد يا با جريان آرام ، پرهيز كني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هنگام دست زدن به موشهاي صحرايي دستكش بپوشي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عد از دست زدن به هر حيواني دست  هاي خود را بشوي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توصيه هاي مراقبت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Zar"/>
              </a:rPr>
              <a:t>گردآوري:دكتر عطيه اعظ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Zar"/>
              </a:rPr>
              <a:t>منابع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  <a:ea typeface="Zar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Zar"/>
              </a:rPr>
              <a:t>Harriso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ttp://www.irib.ir/health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pezeshkanemrooz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يكي از راههاي انتقال احتمالي اين بيماري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عدم رعايت بهداشت مي باشد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Za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لطفا به ادامه اسلايدها توجه نماييد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Za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7:38:44Z</dcterms:created>
  <dc:creator>box</dc:creator>
  <dc:description/>
  <dc:language>en-US</dc:language>
  <cp:lastModifiedBy>box</cp:lastModifiedBy>
  <dcterms:modified xsi:type="dcterms:W3CDTF">2010-01-24T21:20:30Z</dcterms:modified>
  <cp:revision>77</cp:revision>
  <dc:subject/>
  <dc:title>Slide 1</dc:title>
</cp:coreProperties>
</file>