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94C-46D7-4874-9A12-A9E163A1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387-2A65-4889-B398-D079050D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9DD-C4C9-4BFA-8724-D755DF98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8B2-AF70-47E0-8943-25FC0153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62F-57D6-431A-B018-819FFB1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702-FDC2-43C3-9A07-56857B3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58F-DCFC-4131-AE4B-3760E84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DE6-2AD6-436F-BD33-61B591D6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BBF-4D9B-46BE-86BD-1707889C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981-E1AC-4643-849C-12A6D6B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826-0D87-4A45-A79D-AB51BA1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667-1D52-4C18-80F3-6E8C375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2A41-10E7-461E-AD4C-EA46F91E8383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دستگاه گوارش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9280" y="2176200"/>
            <a:ext cx="3827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زماني كه شما غذايي را مي بينيد ، بو مي كنيد و يا حتي در انتظار خوردن يك شيريني پاي سيب در حال پخته شدن هستيد ، ترشح بزاق دهان و اسيد معده شروع مي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قبل از اينكه تكه اي از پاي سيب را بخوريد ، سيستم گوارشي تحريك و آماده فعاليت مي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بعد از ورود اولين تكه شيريني به داخل دهان، بسياري از قسمت هاي سيستم گوارشي به طور اتوماتيك و به دنبال هم شروع به فعاليت مي كن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5440" y="1916280"/>
            <a:ext cx="2896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43280" y="1740960"/>
            <a:ext cx="404352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عد از ورود اولين لقمه غذا به داخل دهان ، غدد بزاقي شروع به ترشح بزاق مي نمايند تا غذا در حين جويدن نرم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بزاق به مقدار روزانه حدود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ليتر ، توسط سه جفت غدد بزاقي و تك سلو ليهاي پراكنده در سطح دهان ترشح مي شود. غدد بزاقي شامل يك جفت غدد بناگوشي ، يك جفت تحت فكي و يك جفت زير زباني مي باش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در حالي كه طعم شيرين پاي سيب حس مي شود و دندان ها آن را خرد مي كنند ، زبان نيز بزاق را با ماده غذايي مخلوط مي نمايد. اين عمل باعث مي شود تا پاي سيب ، نرم، مرطوب و به شكلي قابل بلعيدن در آ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دهان و غدد بزا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2463840"/>
          <a:ext cx="367200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63840"/>
                    <a:ext cx="36720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00" y="2033280"/>
            <a:ext cx="397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هنگامي كه پاي سيب قورت داده مي شود، ماهيچه هاي گلو و دهان آن را به سمت بالاي مري حركت مي ده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لع مروي به وسيله امواج دودي اوليه و ثانويه انجام مي شود. ماهيچه هاي مري با ايجاد حركات موجي موجب راندن غذا به طرف معده مي شوند كه به اين فرآيند حركات دودي گفته مي شو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در انتهاي مري دريچه اي به نام دريچه تحتاني مري قرار دارد كه قبل از رسيدن غذا به انتهاي مري باز مي شود تا غذا به راحتي وارد معده شود و پس از عبور غذا اين دريچه منقبض مي شود تا مانع بازگشت غذا از معده به مري شو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م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2600" y="2257560"/>
            <a:ext cx="37846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عد از ورود غذا به معده، معده با ماهيچه هاي قوي خود شروع به هضم بيشتر غذا مي ك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شيره معده كه غني از اسيد و آنزيم است از غدد موجود در ديواره معده ترشح مي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امواج دودي معده سبب مخلوط سازي محتويات معده مي شوند و به اين ترتيب شيره هاي گوارشي و غذاي جويده شده با هم مخلوط مي شوند. پس از  آن كه غذا كاملا با ترشحات معده آميخته شد ، مخلوطي به نام كيموس به دست مي آ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ا هر انقباض و حركت موج دودي ، مقدار بسيار كمي از كيموس (غذاي نيمه گوارش يافته ) به سمت دريچه خروج معده و ابتداي روده كوچك (دوازدهه) مي رود و بقيه كيموس براي هضم بهتر در معده باقي مي ماند تا به تدريج از معده خارج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مع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2276640"/>
          <a:ext cx="331164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331164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لوزالمعده يكي از غدد بسيار مهم دستگاه گوارش است كه ترشحات خود را از طريق مجرايي به دوازدهه مي ريز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لوزالمعده آنزيم هاي گوارشي را ترشح مي كند كه موجب شكستن پروتئين ها، كربوهيدراتها و چربي ها مي شود. همچنين هورمون هاي انسولين و گلوكاگون كه به كنترل قند خون (گلوكز) كمك مي كنند، در لوزالمعده توليد مي شو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كبد اعمالي مانند ذخيره مواد غذايي، تصفيه كردن و فرآوري مواد شيميايي در غذا و توليد صفرا (محلولي است كه به هضم چربي ها و زدودن مواد زائد كمك مي كند) را به عهده دا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كيسه صفرا، صفرا را نگهداري مي كند. هنگامي كه غذاي چرب وارد دوازدهه مي شود، كيسه صفرا منقبض شده و باعث جريان يافتن صفرا از مجاري صفراوي به ميان روده كوچك مي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لوزالمعده (پانكراس)، كبد و كيسه صفر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297160"/>
          <a:ext cx="374328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97160"/>
                    <a:ext cx="374328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روده كوچك از سه قسمت دوازدهه ، ژژنوم و ايلئوم تشكيل شده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روده كوچك به خصوص دوازدهه و ژژنوم ، محل اصلي هضم و جذب مي باشد. در اين بخش غذا به مولكولهاي كوچكتري شكسته مي شوند تا بتوانند جذب شوند . سپس مواد به آرامي به قسمت نهايي و طولاني روده كوچك (ايلئوم) رانده مي شو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تا انتهاي روده كوچك بيشتر مواد قابل استفاده براي بدن ، جذب مي شو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باقيمانده غذا كه مخلوطي از آب، الكتروليت ها مانند سديم و كلرايد و مواد زائد مانند الياف گياهي و سلولهاي مرده جدا شده از ديواره روده مي باشند به انتهاي ايلئوم مي رس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روده كوچ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2421000"/>
          <a:ext cx="393696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393696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219640" y="2247840"/>
            <a:ext cx="33940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آنچه وارد روده بزرگ مي شود عمدتا موادي هستند كه سلول هاي بدن قادر به استفاده از آن ها نيستند و يا دستگاه گوارش قدرت هضم آن ها را ندا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همچنان كه مواد باقيمانده از كولون عبور مي كنند جذب عمده آب و يون ها صورت مي گيرد و مدفوع كه شامل ماده شكل يافته و نرمي است باقي مي ماند تا از بدن دفع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روده بزر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2133720"/>
          <a:ext cx="403848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40384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نوع غذايي كه مي خوريد، ورزشي كه انجام مي دهيد، ميزان استراحت شما درطول روز و نيز سطح استرس ، تمام اين موارد بر سلامت و سيستم گوارش شما تاثير مي گذ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عادتهاي خوب و مناسب زندگي مي تواند به سلامت سيستم گوارش در بلند مدت كمك كند مانن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تغذيه مناسب و آداب صحيح غذا خورد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كنترل مناسب وز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ورزش منظ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كنترل استر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عدم استعمال دخاني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451"/>
              </a:spcBef>
              <a:buClr>
                <a:srgbClr val="f200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مصرف بااحتياط دارو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Photograph of healthy foods"/>
          <p:cNvPicPr/>
          <p:nvPr/>
        </p:nvPicPr>
        <p:blipFill>
          <a:blip r:embed="rId1"/>
          <a:stretch/>
        </p:blipFill>
        <p:spPr>
          <a:xfrm>
            <a:off x="684360" y="2349360"/>
            <a:ext cx="3263760" cy="244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6308640"/>
            <a:ext cx="2016360" cy="289080"/>
          </a:xfrm>
          <a:prstGeom prst="flowChartTerminator">
            <a:avLst/>
          </a:prstGeom>
          <a:solidFill>
            <a:srgbClr val="ff8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gradFill rotWithShape="0">
            <a:gsLst>
              <a:gs pos="0">
                <a:srgbClr val="d6001f"/>
              </a:gs>
              <a:gs pos="50000">
                <a:srgbClr val="ff8193"/>
              </a:gs>
              <a:gs pos="100000">
                <a:srgbClr val="d600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هضم سا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0023"/>
            </a:gs>
            <a:gs pos="50000">
              <a:srgbClr val="ff8193"/>
            </a:gs>
            <a:gs pos="100000">
              <a:srgbClr val="f200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476360" y="1701720"/>
            <a:ext cx="619128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a0065"/>
                  </a:solidFill>
                  <a:miter/>
                </a:ln>
                <a:solidFill>
                  <a:srgbClr val="fa0065"/>
                </a:solidFill>
                <a:latin typeface="Times New Roman"/>
              </a:rPr>
              <a:t>http://his.ut.ac.ir</a:t>
            </a:r>
            <a:endParaRPr b="0" lang="en-US" sz="1800" spc="1" strike="noStrike">
              <a:ln w="9360">
                <a:solidFill>
                  <a:srgbClr val="fa0065"/>
                </a:solidFill>
                <a:miter/>
              </a:ln>
              <a:solidFill>
                <a:srgbClr val="fa0065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3284640"/>
            <a:ext cx="6481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:www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oclinic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ترجمه: نرگس رحمتي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تنظيم : مريم فت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22:34:53Z</dcterms:created>
  <dc:creator>box2\</dc:creator>
  <dc:description/>
  <dc:language>en-US</dc:language>
  <cp:lastModifiedBy>box2\</cp:lastModifiedBy>
  <dcterms:modified xsi:type="dcterms:W3CDTF">2008-03-05T16:43:06Z</dcterms:modified>
  <cp:revision>41</cp:revision>
  <dc:subject/>
  <dc:title>See how your digestive system works </dc:title>
</cp:coreProperties>
</file>